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BFCD-F60C-4E1B-9F1E-DA5D60F9058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94F3-4482-4318-A8EE-837FD4C212E1}" type="slidenum">
              <a:rPr b="0" lang="it-IT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644-E392-41D0-BF8F-F71D3F07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ED7-D10F-48D7-95DC-BFF05FC9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B3A-5A14-4742-A8DF-6AE0BDDC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2AE-23C4-4D6B-8DE3-0B2F678D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757B-F60F-4AA7-8095-4EF9912C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D58F-4440-4F79-A931-333CDB2B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6BBC-0208-40B6-BB26-37A6B3FD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CD22-C3D7-48A8-BE16-96915BD6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BDB0-0B8B-49DB-AFC9-9B090AB6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212C-DEE8-4F4F-98B1-6EB3524E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2390-C902-48B7-A0DD-F8F35ED0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B70-A713-407D-AD94-D368D84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169E-EC88-4C91-8E84-6A6A4B5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4FED-D95F-40E2-9A90-B2D70EC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9E10-4019-4F25-AC0A-7AFDDFC9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A46F-D9A9-4F91-93CC-0AD5BB1D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823E-252F-4B7D-AB8C-21434050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3A0-232B-43BB-883D-8882AA8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012-308D-49DD-9D84-ED3BAFEF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1F1-C785-4D0A-81E7-32EA8699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455-CA5B-4006-A47A-08222A3B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422-AA5C-4536-9236-1321FE42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293-8EF7-42A0-8238-7285DA06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F4D-2F81-494C-BE65-FF37FCFB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315A-F887-470A-B5A9-F0B56A34DB74}" type="slidenum">
              <a:rPr b="0" lang="it-IT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5CBE-9026-4BF3-8A95-687E71F6376F}" type="slidenum">
              <a:rPr b="0" lang="de-DE" sz="1400" spc="-1" strike="noStrike">
                <a:solidFill>
                  <a:srgbClr val="ffff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data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Segnaposto piè di pagina 2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Picture 2" descr="EUROPEAN UNION LOGO"/>
          <p:cNvPicPr/>
          <p:nvPr/>
        </p:nvPicPr>
        <p:blipFill>
          <a:blip r:embed="rId1"/>
          <a:stretch/>
        </p:blipFill>
        <p:spPr>
          <a:xfrm>
            <a:off x="0" y="5459400"/>
            <a:ext cx="1981080" cy="136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LET'S DO IT BETTER LOGO"/>
          <p:cNvPicPr/>
          <p:nvPr/>
        </p:nvPicPr>
        <p:blipFill>
          <a:blip r:embed="rId2"/>
          <a:stretch/>
        </p:blipFill>
        <p:spPr>
          <a:xfrm>
            <a:off x="4876920" y="4191120"/>
            <a:ext cx="426708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LA COMUNITÀ"/>
          <p:cNvPicPr/>
          <p:nvPr/>
        </p:nvPicPr>
        <p:blipFill>
          <a:blip r:embed="rId3"/>
          <a:stretch/>
        </p:blipFill>
        <p:spPr>
          <a:xfrm>
            <a:off x="2743200" y="374760"/>
            <a:ext cx="6172200" cy="473076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0" y="2514600"/>
            <a:ext cx="4460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Impact"/>
              </a:rPr>
              <a:t>Let's Do It Bet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9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4" descr="536875_10200093340969082_842627564_n"/>
          <p:cNvPicPr/>
          <p:nvPr/>
        </p:nvPicPr>
        <p:blipFill>
          <a:blip r:embed="rId1"/>
          <a:stretch/>
        </p:blipFill>
        <p:spPr>
          <a:xfrm>
            <a:off x="2209680" y="1066680"/>
            <a:ext cx="5535720" cy="5042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" name="Picture 4" descr="601117_10200093348369267_1764865600_n"/>
          <p:cNvPicPr/>
          <p:nvPr/>
        </p:nvPicPr>
        <p:blipFill>
          <a:blip r:embed="rId1"/>
          <a:stretch/>
        </p:blipFill>
        <p:spPr>
          <a:xfrm>
            <a:off x="1905120" y="380880"/>
            <a:ext cx="5099040" cy="6096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4" descr="734440_10200093320368567_1653039066_n"/>
          <p:cNvPicPr/>
          <p:nvPr/>
        </p:nvPicPr>
        <p:blipFill>
          <a:blip r:embed="rId1"/>
          <a:stretch/>
        </p:blipFill>
        <p:spPr>
          <a:xfrm>
            <a:off x="1981080" y="846000"/>
            <a:ext cx="5764320" cy="5249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4" descr="734494_10200093336888980_1219388846_n"/>
          <p:cNvPicPr/>
          <p:nvPr/>
        </p:nvPicPr>
        <p:blipFill>
          <a:blip r:embed="rId1"/>
          <a:stretch/>
        </p:blipFill>
        <p:spPr>
          <a:xfrm>
            <a:off x="2133720" y="984240"/>
            <a:ext cx="5611680" cy="51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to find jo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4" descr="23434_1325971522148_6637753_n"/>
          <p:cNvPicPr/>
          <p:nvPr/>
        </p:nvPicPr>
        <p:blipFill>
          <a:blip r:embed="rId1"/>
          <a:stretch/>
        </p:blipFill>
        <p:spPr>
          <a:xfrm>
            <a:off x="838080" y="685800"/>
            <a:ext cx="500868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ACTIVITIES WITH YOUNG and IMMIGRA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5" descr="23434_1325971522148_6637753_n"/>
          <p:cNvPicPr/>
          <p:nvPr/>
        </p:nvPicPr>
        <p:blipFill>
          <a:blip r:embed="rId1"/>
          <a:stretch/>
        </p:blipFill>
        <p:spPr>
          <a:xfrm>
            <a:off x="3608280" y="1981080"/>
            <a:ext cx="375624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86400" y="1599840"/>
            <a:ext cx="3200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presence of many volunteers facilitates the dialogue and help to animate the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4" descr="226105_10200093223686150_1012808522_n"/>
          <p:cNvPicPr/>
          <p:nvPr/>
        </p:nvPicPr>
        <p:blipFill>
          <a:blip r:embed="rId1"/>
          <a:stretch/>
        </p:blipFill>
        <p:spPr>
          <a:xfrm>
            <a:off x="304920" y="2416320"/>
            <a:ext cx="4876560" cy="444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mutual knowledge and intercultural dialogue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Picture 4" descr="269322_10200093324568672_1979449714_n"/>
          <p:cNvPicPr/>
          <p:nvPr/>
        </p:nvPicPr>
        <p:blipFill>
          <a:blip r:embed="rId1"/>
          <a:stretch/>
        </p:blipFill>
        <p:spPr>
          <a:xfrm>
            <a:off x="1905120" y="1523880"/>
            <a:ext cx="5459400" cy="497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CITIZENSHI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4" descr="300791_2195343415902_1740919_n"/>
          <p:cNvPicPr/>
          <p:nvPr/>
        </p:nvPicPr>
        <p:blipFill>
          <a:blip r:embed="rId1"/>
          <a:stretch/>
        </p:blipFill>
        <p:spPr>
          <a:xfrm>
            <a:off x="1143000" y="1676520"/>
            <a:ext cx="682164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Play toghe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Picture 4" descr="303576_2195337855763_2338871_n"/>
          <p:cNvPicPr/>
          <p:nvPr/>
        </p:nvPicPr>
        <p:blipFill>
          <a:blip r:embed="rId1"/>
          <a:stretch/>
        </p:blipFill>
        <p:spPr>
          <a:xfrm>
            <a:off x="2473200" y="1981080"/>
            <a:ext cx="602460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build intercultural dialog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8" name="Picture 4" descr="316594_2196115675208_5751798_n"/>
          <p:cNvPicPr/>
          <p:nvPr/>
        </p:nvPicPr>
        <p:blipFill>
          <a:blip r:embed="rId1"/>
          <a:stretch/>
        </p:blipFill>
        <p:spPr>
          <a:xfrm>
            <a:off x="2514600" y="1981080"/>
            <a:ext cx="523080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Picture 4" descr="379324_10200093345449194_228595049_n"/>
          <p:cNvPicPr/>
          <p:nvPr/>
        </p:nvPicPr>
        <p:blipFill>
          <a:blip r:embed="rId1"/>
          <a:stretch/>
        </p:blipFill>
        <p:spPr>
          <a:xfrm>
            <a:off x="1295280" y="1165320"/>
            <a:ext cx="6450120" cy="4930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" name="Picture 4" descr="428283_10200093333288890_500160707_n"/>
          <p:cNvPicPr/>
          <p:nvPr/>
        </p:nvPicPr>
        <p:blipFill>
          <a:blip r:embed="rId1"/>
          <a:stretch/>
        </p:blipFill>
        <p:spPr>
          <a:xfrm>
            <a:off x="1371600" y="1143000"/>
            <a:ext cx="6145200" cy="483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20:32:09Z</dcterms:created>
  <dc:creator>' '</dc:creator>
  <dc:description/>
  <dc:language>en-US</dc:language>
  <cp:lastModifiedBy>federica</cp:lastModifiedBy>
  <dcterms:modified xsi:type="dcterms:W3CDTF">2013-03-03T12:20:44Z</dcterms:modified>
  <cp:revision>2</cp:revision>
  <dc:subject/>
  <dc:title>Presentazione di PowerPoint</dc:title>
</cp:coreProperties>
</file>